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48250" cy="206676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6AA-FE85-4CDF-9B46-8766CF7F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2740500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080" y="11946600"/>
            <a:ext cx="2740500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FB7-C293-47F2-A2EA-3FA2087F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64240" y="482292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080" y="1194660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64240" y="1194660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F67-7F36-4747-897B-3BE78554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882432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88120" y="4822920"/>
            <a:ext cx="882432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053800" y="4822920"/>
            <a:ext cx="882432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080" y="11946600"/>
            <a:ext cx="882432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88120" y="11946600"/>
            <a:ext cx="882432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053800" y="11946600"/>
            <a:ext cx="882432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BD1-5FA4-430A-AAF8-F6D4AF2F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080" y="4822920"/>
            <a:ext cx="27405000" cy="136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466-48FA-46F5-8BCC-851373D7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27405000" cy="1363824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009-484F-49EE-8C97-9E8A4873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13373280" cy="1363824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64240" y="4822920"/>
            <a:ext cx="13373280" cy="1363824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7A5-09C6-466B-A28A-84464639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5F6-9815-4C1E-8828-1D355C78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080" y="826920"/>
            <a:ext cx="27405000" cy="159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51"/>
              </a:spcBef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0DE-0E49-42F1-9A47-4516A891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64240" y="4822920"/>
            <a:ext cx="13373280" cy="1363824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080" y="1194660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4DE-1DC1-42F7-BB8D-6C08B8D0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13373280" cy="1363824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64240" y="482292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64240" y="1194660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50C-570D-4F33-BB76-9D10CB6B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080" y="482292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64240" y="4822920"/>
            <a:ext cx="1337328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080" y="11946600"/>
            <a:ext cx="27405000" cy="650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19240"/>
                <a:tab algn="l" pos="5838840"/>
                <a:tab algn="l" pos="8758080"/>
              </a:tabLst>
            </a:pP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0EA-54AA-432E-BD46-FB9342E5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080" y="826920"/>
            <a:ext cx="27405000" cy="344520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080" y="4822920"/>
            <a:ext cx="27405000" cy="1363824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t">
            <a:normAutofit/>
          </a:bodyPr>
          <a:p>
            <a:pPr marL="1093680" indent="-109368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lvl="1" marL="2371680" indent="-911160">
              <a:spcBef>
                <a:spcPts val="2551"/>
              </a:spcBef>
              <a:buClr>
                <a:srgbClr val="000000"/>
              </a:buClr>
              <a:buFont typeface="Arial"/>
              <a:buChar char="–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lvl="2" marL="3649680" indent="-728640"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lvl="3" marL="5110200" indent="-728640">
              <a:spcBef>
                <a:spcPts val="2551"/>
              </a:spcBef>
              <a:buClr>
                <a:srgbClr val="000000"/>
              </a:buClr>
              <a:buFont typeface="Arial"/>
              <a:buChar char="–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lvl="4" marL="6570720" indent="-728640">
              <a:spcBef>
                <a:spcPts val="2551"/>
              </a:spcBef>
              <a:buClr>
                <a:srgbClr val="000000"/>
              </a:buClr>
              <a:buFont typeface="Arial"/>
              <a:buChar char="»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lvl="5" marL="6570720" indent="-728640">
              <a:spcBef>
                <a:spcPts val="2551"/>
              </a:spcBef>
              <a:buClr>
                <a:srgbClr val="000000"/>
              </a:buClr>
              <a:buFont typeface="Arial"/>
              <a:buChar char="»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lvl="6" marL="6570720" indent="-728640">
              <a:spcBef>
                <a:spcPts val="2551"/>
              </a:spcBef>
              <a:buClr>
                <a:srgbClr val="000000"/>
              </a:buClr>
              <a:buFont typeface="Arial"/>
              <a:buChar char="»"/>
              <a:tabLst>
                <a:tab algn="l" pos="2919240"/>
                <a:tab algn="l" pos="5838840"/>
                <a:tab algn="l" pos="875808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440" y="19154880"/>
            <a:ext cx="7105680" cy="110016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lstStyle>
            <a:lvl1pPr indent="0">
              <a:buNone/>
              <a:tabLst>
                <a:tab algn="l" pos="0"/>
                <a:tab algn="l" pos="2919240"/>
                <a:tab algn="l" pos="5838840"/>
                <a:tab algn="l" pos="8758080"/>
              </a:tabLst>
              <a:defRPr b="0" lang="en-US" sz="3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r>
              <a:rPr b="0" lang="en-US" sz="3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04000" y="19154880"/>
            <a:ext cx="9641160" cy="110016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p>
            <a:pPr indent="0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21760" y="19154880"/>
            <a:ext cx="7105680" cy="1100160"/>
          </a:xfrm>
          <a:prstGeom prst="rect">
            <a:avLst/>
          </a:prstGeom>
          <a:noFill/>
          <a:ln w="0">
            <a:noFill/>
          </a:ln>
        </p:spPr>
        <p:txBody>
          <a:bodyPr lIns="291960" rIns="291960" tIns="146160" bIns="146160" anchor="ctr">
            <a:noAutofit/>
          </a:bodyPr>
          <a:lstStyle>
            <a:lvl1pPr indent="0" algn="r">
              <a:buNone/>
              <a:tabLst>
                <a:tab algn="l" pos="0"/>
                <a:tab algn="l" pos="2919240"/>
                <a:tab algn="l" pos="5838840"/>
                <a:tab algn="l" pos="8758080"/>
              </a:tabLst>
              <a:defRPr b="0" lang="en-GB" sz="3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919240"/>
                <a:tab algn="l" pos="5838840"/>
                <a:tab algn="l" pos="8758080"/>
              </a:tabLst>
            </a:pPr>
            <a:fld id="{A4E902C6-8D39-423A-BB7D-0A600D568C9C}" type="slidenum">
              <a:rPr b="0" lang="en-GB" sz="3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520120" y="2179800"/>
            <a:ext cx="12877920" cy="10667880"/>
          </a:xfrm>
          <a:prstGeom prst="rect">
            <a:avLst/>
          </a:prstGeom>
          <a:ln w="0">
            <a:noFill/>
          </a:ln>
        </p:spPr>
      </p:pic>
      <p:pic>
        <p:nvPicPr>
          <p:cNvPr id="42" name="Diagram 4" descr=""/>
          <p:cNvPicPr/>
          <p:nvPr/>
        </p:nvPicPr>
        <p:blipFill>
          <a:blip r:embed="rId2"/>
          <a:stretch/>
        </p:blipFill>
        <p:spPr>
          <a:xfrm>
            <a:off x="590400" y="2120760"/>
            <a:ext cx="7553520" cy="10796760"/>
          </a:xfrm>
          <a:prstGeom prst="rect">
            <a:avLst/>
          </a:prstGeom>
          <a:ln w="0">
            <a:noFill/>
          </a:ln>
        </p:spPr>
      </p:pic>
      <p:pic>
        <p:nvPicPr>
          <p:cNvPr id="43" name="Diagram 5" descr=""/>
          <p:cNvPicPr/>
          <p:nvPr/>
        </p:nvPicPr>
        <p:blipFill>
          <a:blip r:embed="rId3"/>
          <a:stretch/>
        </p:blipFill>
        <p:spPr>
          <a:xfrm>
            <a:off x="21720240" y="2103480"/>
            <a:ext cx="8143920" cy="10869480"/>
          </a:xfrm>
          <a:prstGeom prst="rect">
            <a:avLst/>
          </a:prstGeom>
          <a:ln w="0">
            <a:noFill/>
          </a:ln>
        </p:spPr>
      </p:pic>
      <p:pic>
        <p:nvPicPr>
          <p:cNvPr id="44" name="Diagram 6" descr=""/>
          <p:cNvPicPr/>
          <p:nvPr/>
        </p:nvPicPr>
        <p:blipFill>
          <a:blip r:embed="rId4"/>
          <a:stretch/>
        </p:blipFill>
        <p:spPr>
          <a:xfrm>
            <a:off x="585720" y="13142880"/>
            <a:ext cx="18799200" cy="7527960"/>
          </a:xfrm>
          <a:prstGeom prst="rect">
            <a:avLst/>
          </a:prstGeom>
          <a:ln w="0">
            <a:noFill/>
          </a:ln>
        </p:spPr>
      </p:pic>
      <p:pic>
        <p:nvPicPr>
          <p:cNvPr id="45" name="Diagram 7" descr=""/>
          <p:cNvPicPr/>
          <p:nvPr/>
        </p:nvPicPr>
        <p:blipFill>
          <a:blip r:embed="rId5"/>
          <a:stretch/>
        </p:blipFill>
        <p:spPr>
          <a:xfrm>
            <a:off x="19623240" y="13130280"/>
            <a:ext cx="10009080" cy="760896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8" descr=""/>
          <p:cNvPicPr/>
          <p:nvPr/>
        </p:nvPicPr>
        <p:blipFill>
          <a:blip r:embed="rId6"/>
          <a:stretch/>
        </p:blipFill>
        <p:spPr>
          <a:xfrm>
            <a:off x="1182600" y="353880"/>
            <a:ext cx="2855448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05:27:56Z</dcterms:created>
  <dc:creator>Ng</dc:creator>
  <dc:description/>
  <dc:language>en-US</dc:language>
  <cp:lastModifiedBy>Ng</cp:lastModifiedBy>
  <dcterms:modified xsi:type="dcterms:W3CDTF">2009-06-07T12:05:10Z</dcterms:modified>
  <cp:revision>4</cp:revision>
  <dc:subject/>
  <dc:title>Slide 1</dc:title>
</cp:coreProperties>
</file>